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696-6511-4DBA-8173-6978EEE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E92-C65B-4025-A4A9-AF4A585A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C48-F9B5-499C-98D4-5010488E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5FB-892B-4B0D-A8C1-786AD30E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EB3-1CEF-475D-A3DD-E250FA2D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848-464F-471E-AC93-29E84B1B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6C7-99C5-4467-A4ED-96DC248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44E-D531-4AEE-9808-CD5C4E3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CA7-6933-4FC4-B595-A0679F0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F1B-84FF-452F-B1AD-585DF56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6C6-8C1C-4EB2-A903-37BF9C88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1D1-B90F-4DCF-BD79-E6B36DE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E94-3517-43D5-96AC-F6F50FC0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Customer</cp:lastModifiedBy>
  <dcterms:modified xsi:type="dcterms:W3CDTF">2011-01-13T20:32:54Z</dcterms:modified>
  <cp:revision>2</cp:revision>
  <dc:subject/>
  <dc:title>Slide 1</dc:title>
</cp:coreProperties>
</file>